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748-BE37-47CE-8CB9-046E99CC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F7D8-18A5-485E-9BDB-A653CA3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832-1DA8-4C90-98FD-F14D4634E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554-108F-4FE0-B1F6-94440C5A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F45-1B87-4520-A570-3B5DE4E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35F3-AB57-4471-B257-0A607159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00C7-7D8E-4A42-B1F7-92135580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1689-A7F9-403C-A8ED-6F445D9E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F491-2085-413F-A040-6EFB635A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6BD-9EF1-404A-8E63-8B8F5BA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7DE1-2EA7-402D-ACAB-1B8FFB3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626-F97A-4D05-A677-6F234E3A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E8ED-7BDA-42C1-80F7-C223013767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2096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CĂ LUCREZI COREC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I AVEA O SURPRIZĂ PLĂCUTĂ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SEAZĂ TABLA ÎNMULŢIRII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80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6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0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88040" y="42670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1976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42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880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976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242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7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8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6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18:41Z</dcterms:created>
  <dc:creator>sa</dc:creator>
  <dc:description/>
  <dc:language>en-US</dc:language>
  <cp:lastModifiedBy>sa</cp:lastModifiedBy>
  <dcterms:modified xsi:type="dcterms:W3CDTF">2008-11-17T18:13:29Z</dcterms:modified>
  <cp:revision>4</cp:revision>
  <dc:subject/>
  <dc:title>1. dia</dc:title>
</cp:coreProperties>
</file>